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15A-D81F-42CB-A6A5-5ABE6B7C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AB8-3667-4188-9E3D-729ACFF5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DCB-F4D8-41A9-B91E-64351468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2B2-728B-44BB-BE37-A708CA44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88A-F02B-4F56-AD3F-E0D7C2DE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827-2CCA-44DE-8D08-A5F789B6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DA9-B52D-4663-980A-908D3EF4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F65-AADD-4186-A0BE-911877E9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760-6B67-4C66-B321-3D6A023E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251-4212-4929-8CBE-DA89DC2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C59-8531-44ED-87A5-8637B6F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29F-7A57-4963-8DE6-FF5CB245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E1A9-7443-4E66-9A6B-3EA792591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by Se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as a political activist, Black Panther, and cultural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and 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by seale was born in 1936 in Dallas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Grew up in texas, but relcoated to Oakland due to 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ropped out of high school and joined the Air Force, but was dishonorably discharged after only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5880" y="5105520"/>
            <a:ext cx="1673280" cy="1401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676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ing the black pan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age of 25, Seale attended Oakland City College, Joined the Afro-American-Assosiation, and met the man whth whom he co founded the black panthers with, Huey New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ether, the two would form the black panther party in october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34320" y="4191120"/>
            <a:ext cx="2019240" cy="236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14800" y="4800600"/>
            <a:ext cx="1438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lack Panther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Panther Party was an african american revolutionary group aimed at giving blacks more power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that Blacks in america were greatly mis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by Seales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Seale’s biggest biggest influence to start the Black Panther Party was a black civil rights activist named Malcom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713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2:12:06Z</dcterms:created>
  <dc:creator>Joe Mixie</dc:creator>
  <dc:description/>
  <dc:language>en-US</dc:language>
  <cp:lastModifiedBy>Joe Mixie</cp:lastModifiedBy>
  <dcterms:modified xsi:type="dcterms:W3CDTF">2010-12-17T02:46:18Z</dcterms:modified>
  <cp:revision>2</cp:revision>
  <dc:subject/>
  <dc:title>Bobby Seale</dc:title>
</cp:coreProperties>
</file>